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A1A-A25D-4712-8045-12ACDD0A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7B7-458B-463C-929D-FD7FE937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C94-4A14-4745-A57E-2DC1D438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44F-0200-4052-AD7C-87E7C9AC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3889-36AF-4018-B820-1BAF3FA1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74E3-8C40-4082-B8CD-247A206E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7BEF-7911-496C-B745-4C6B0DF6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DD6C-CB2B-499C-ADEB-8110AB3B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69A9-137D-459F-8392-BE53C406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30F2-0A9A-4D63-B326-DFB48A3C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69E1-3D57-4CBB-B1EA-EFCD7AF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120-0332-4C98-9C2A-DEADD990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5D05-DDC2-4AF2-BE2F-171D5251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0CC0-43B8-448F-B41D-BADFFC4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6CAC-9428-4B9A-9C56-DB5219B4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A1F7-202D-4AC9-A291-AEB479E0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9591-0156-40D6-9609-A8FDC152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461B-8E1D-4F18-A890-08D5E309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5FE6-2E60-4E51-8D6C-31FB74B4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152F-5B34-45F1-B287-947E784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B88C-A6A8-4124-877B-DE400DD0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3B97-3754-43E0-A4FC-BBE5468F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F0D-0C7C-49AC-A064-1BFBE546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58EF-BC0B-4034-80C6-825C524F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F68D-F1AA-4575-93B3-981603F8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33E8-C31D-495A-8ED0-00A15012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9FBE-7F10-4B2B-9902-230CE3BF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631D3-A7D8-42A8-B709-A993DFC8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0684-6B34-4185-9326-0FD828AE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4213-71F4-4D16-B313-C3362D14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12FA-1BB0-405D-9DEB-C415E104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511B7-DB39-495F-8E64-1BA05CCE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1FFE-6820-4EDF-A9D9-A9DA7D2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1E1-E1D5-4CA1-9F61-729CDFC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A762-81BF-4090-A112-C6261B60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D88C-3CFE-4C73-B035-707CCBA7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FD0A-F901-405A-B8EC-9B843B1C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A09F-2AD0-4E10-B289-1B3751EE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67D96-22A9-44DA-86B5-4EFE0B6B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D591-3B17-4889-B5FC-A2ADDF5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44C9-18C3-46B9-B000-FA641CD0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AAB19-6AD4-4657-AD1C-421A1C9D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ACA9D-3EA8-457B-96E6-47430A05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BF537-9E59-479C-BDA7-3AE73943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1BD-D910-493F-9CBE-C6A4E36D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F05F8-48BC-4DF1-8C31-0D37B7E3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5427-FB78-4D8E-B09D-DEE1DF75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B320-7972-4673-B8B0-383BAAA4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96064-7AAF-41E9-9238-1A724761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2B65-F048-4D8C-A1F3-01F3A76E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B645E-EF71-4899-99B0-A338AEA9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D7D13-5A26-4D62-AD32-CF5ADA65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ABF0-A541-4F6E-AB3E-CEED52E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3A0C6-BE7A-4911-9CCD-B9ED841C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99968-245F-4C09-9368-70DAF886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D51-3FA3-455A-9BEE-953AA72C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1759C-FF9F-4FAA-B309-A94B5500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32E-0788-44D1-8B2E-AF7AACD8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962-DC45-4440-8C3D-D1011461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DBE-7ACF-464B-AE8E-0F58D6BF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3585-D80C-4EEA-8352-33E311E1400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9CCA-76C4-47CE-92AC-C6883B5C970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C6DF-EDAB-4537-9215-1BDF8ECDE2B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F91E-9977-4106-9BCD-5DDEF07985C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1C25-B96D-48BD-878A-96176C97AC9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ыполнила: студентка 143 групп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ингалева Але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752120" y="55627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ть ли ветер в голове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4" descr="G:\ветер\47002210_D092D095D0A2D095D0A0.jpg"/>
          <p:cNvPicPr/>
          <p:nvPr/>
        </p:nvPicPr>
        <p:blipFill>
          <a:blip r:embed="rId2"/>
          <a:stretch/>
        </p:blipFill>
        <p:spPr>
          <a:xfrm>
            <a:off x="1600200" y="15238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312408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жно ли догнать ветер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3962520" y="1523880"/>
            <a:ext cx="3352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ует ли ветер на других планетах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J:\ветер\c90606c3cb8ec554e37105085910fd59_big.jpg"/>
          <p:cNvPicPr/>
          <p:nvPr/>
        </p:nvPicPr>
        <p:blipFill>
          <a:blip r:embed="rId2"/>
          <a:stretch/>
        </p:blipFill>
        <p:spPr>
          <a:xfrm>
            <a:off x="4114800" y="28954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2438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ие виды ветров существует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образуется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измерить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ля чего нужно знать параметры ветра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используется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ие бедствия сопровождает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навыков работы на компьютере и в интернет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самостоятельной познавательной деятельности, критического мышления, навыков работы в команд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обретение навыков самостоятельной работы с большими объемами информации, умений увидеть проблему и наметить пути ее решен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дивидуа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рупп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INA</cp:lastModifiedBy>
  <dcterms:modified xsi:type="dcterms:W3CDTF">2010-06-01T19:44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